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B7B-C048-44A5-A526-3D2A8CB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A57-3EA8-4090-A0E3-1209D91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0AB-1470-4B46-976F-E8A43634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82E-480C-4522-BC94-BA40C08F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67A-E635-4E0B-B4E9-CC4D850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20B-047B-4C74-AAF7-1DC9AB6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A53-05FC-4F1C-8541-03C8AA2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2AB-8BB8-453B-9EF3-0D741A1C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714-3DE8-4FA6-938A-FAD3249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3C9-A182-4449-A35E-6453D0A2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870-B3BE-4D98-95BC-E4573B1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A61-F3CE-4804-96A4-83CD8D18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CE91-91DC-4BE6-AB6D-81E262702C0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J002678F/welcom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ject ideas: Great explor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Point present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their report to share with the cla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ruitment Post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e as reporters and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the explorer for a "magazine article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 out a scripted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ve TV Intervie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for a videotape or live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and videotape a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-enactmen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a significant event from the explorer's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"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Journal Pag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or "Captain's Log" entries for significant ev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ebqu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brary.thinkquest.org/J002678F/welcome.ht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21:18:22Z</dcterms:created>
  <dc:creator>Pepe</dc:creator>
  <dc:description/>
  <dc:language>en-US</dc:language>
  <cp:lastModifiedBy>Pepe</cp:lastModifiedBy>
  <dcterms:modified xsi:type="dcterms:W3CDTF">2011-08-08T21:28:42Z</dcterms:modified>
  <cp:revision>2</cp:revision>
  <dc:subject/>
  <dc:title>Project ideas: Great explorers</dc:title>
</cp:coreProperties>
</file>